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17.jpeg" ContentType="image/jpeg"/>
  <Override PartName="/ppt/media/image6.wmf" ContentType="image/x-wmf"/>
  <Override PartName="/ppt/media/image29.wmf" ContentType="image/x-wmf"/>
  <Override PartName="/ppt/media/image9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12.wmf" ContentType="image/x-wmf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13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8.gif" ContentType="image/gif"/>
  <Override PartName="/ppt/media/image24.wmf" ContentType="image/x-wmf"/>
  <Override PartName="/ppt/media/image15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4322-996B-4246-BA96-149ED17394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E30C-D217-4B9F-B6F1-582B7089A7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807F-8D0C-4A97-917C-44074107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933-6FFE-42FB-9764-17F48523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914-59C9-4309-8DA5-4E43439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1E7-D348-493B-8327-732C0553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540-DC32-476D-AD2F-E46784F0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CB6-F7CC-48D4-8E2E-1E9DAAAF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58A-E87A-4236-970A-C79A102D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6C4-FA14-41DC-903A-31D2512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D19-8B89-428E-987E-29AEA1F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152-FB53-4540-8152-AECD56B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F13-A3D4-4387-A85C-118D33DC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53D-6CE6-4675-9E44-E16F183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6BD-B214-4616-856E-FA49F3E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D67A-BF00-4651-90DD-E1B58DA04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BD66-FC42-4072-8291-8FE9BCBBA0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Summer_14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523880" y="685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隶书"/>
              </a:rPr>
              <a:t>九年义务教育六年级（上）（人教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23"/>
          <p:cNvPicPr/>
          <p:nvPr/>
        </p:nvPicPr>
        <p:blipFill>
          <a:blip r:embed="rId2"/>
          <a:stretch/>
        </p:blipFill>
        <p:spPr>
          <a:xfrm>
            <a:off x="971640" y="981000"/>
            <a:ext cx="4190760" cy="533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2057400" y="1905120"/>
            <a:ext cx="5562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新魏"/>
              </a:rPr>
              <a:t>扇形统计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012"/>
          <p:cNvPicPr/>
          <p:nvPr/>
        </p:nvPicPr>
        <p:blipFill>
          <a:blip r:embed="rId3"/>
          <a:stretch/>
        </p:blipFill>
        <p:spPr>
          <a:xfrm>
            <a:off x="826920" y="620640"/>
            <a:ext cx="6987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064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圆和扇形分别表示关于总体和各个组成部分数据的统计图叫做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扇形统计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11280" y="2421000"/>
            <a:ext cx="784836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扇形统计图的特点是能直观地、生动地反映各部分与总数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58920" y="42210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但扇形统计图美中不足的是不能清楚的反映各个数量的多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0" y="685800"/>
          <a:ext cx="48006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4"/>
          <p:cNvSpPr/>
          <p:nvPr/>
        </p:nvSpPr>
        <p:spPr>
          <a:xfrm>
            <a:off x="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909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月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3886200" y="762120"/>
            <a:ext cx="5029200" cy="3944880"/>
            <a:chOff x="3886200" y="762120"/>
            <a:chExt cx="5029200" cy="3944880"/>
          </a:xfrm>
        </p:grpSpPr>
        <p:graphicFrame>
          <p:nvGraphicFramePr>
            <p:cNvPr id="101" name="Object 7"/>
            <p:cNvGraphicFramePr/>
            <p:nvPr/>
          </p:nvGraphicFramePr>
          <p:xfrm>
            <a:off x="3886200" y="1600200"/>
            <a:ext cx="4648320" cy="3106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2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1600200"/>
                      <a:ext cx="4648320" cy="31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Text Box 8"/>
            <p:cNvSpPr/>
            <p:nvPr/>
          </p:nvSpPr>
          <p:spPr>
            <a:xfrm>
              <a:off x="5029200" y="76212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六二班最喜欢的运动项目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7122240" y="12924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月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0"/>
          <p:cNvSpPr/>
          <p:nvPr/>
        </p:nvSpPr>
        <p:spPr>
          <a:xfrm>
            <a:off x="1219320" y="5029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733920" y="5029200"/>
            <a:ext cx="4800600" cy="459720"/>
          </a:xfrm>
          <a:prstGeom prst="rect">
            <a:avLst/>
          </a:prstGeom>
          <a:solidFill>
            <a:srgbClr val="ffff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扇形统计图可以清楚地表示出各部分数量同总数之间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9" descr=""/>
          <p:cNvPicPr/>
          <p:nvPr/>
        </p:nvPicPr>
        <p:blipFill>
          <a:blip r:embed="rId1"/>
          <a:stretch/>
        </p:blipFill>
        <p:spPr>
          <a:xfrm>
            <a:off x="0" y="907920"/>
            <a:ext cx="5977080" cy="4897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1128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99"/>
                </a:solidFill>
                <a:latin typeface="Arial"/>
              </a:rPr>
              <a:t>生活中的扇形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t01c771dbb7324cb102"/>
          <p:cNvPicPr/>
          <p:nvPr/>
        </p:nvPicPr>
        <p:blipFill>
          <a:blip r:embed="rId2"/>
          <a:stretch/>
        </p:blipFill>
        <p:spPr>
          <a:xfrm>
            <a:off x="5148360" y="1125360"/>
            <a:ext cx="3751200" cy="4391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900000" y="580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种树木种植情况统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12000" y="5877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兴趣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t01fbb0bb778285ff73"/>
          <p:cNvPicPr/>
          <p:nvPr/>
        </p:nvPicPr>
        <p:blipFill>
          <a:blip r:embed="rId1"/>
          <a:stretch/>
        </p:blipFill>
        <p:spPr>
          <a:xfrm>
            <a:off x="684360" y="620640"/>
            <a:ext cx="3635280" cy="41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QQ图片20150106235308"/>
          <p:cNvPicPr/>
          <p:nvPr/>
        </p:nvPicPr>
        <p:blipFill>
          <a:blip r:embed="rId2"/>
          <a:stretch/>
        </p:blipFill>
        <p:spPr>
          <a:xfrm>
            <a:off x="5219640" y="620640"/>
            <a:ext cx="3186000" cy="3743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332000" y="260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体每天需要的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t0131aa1bbd2a711d74"/>
          <p:cNvPicPr/>
          <p:nvPr/>
        </p:nvPicPr>
        <p:blipFill>
          <a:blip r:embed="rId1"/>
          <a:stretch/>
        </p:blipFill>
        <p:spPr>
          <a:xfrm>
            <a:off x="250920" y="0"/>
            <a:ext cx="4294080" cy="32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t013aa02137928d1388"/>
          <p:cNvPicPr/>
          <p:nvPr/>
        </p:nvPicPr>
        <p:blipFill>
          <a:blip r:embed="rId2"/>
          <a:stretch/>
        </p:blipFill>
        <p:spPr>
          <a:xfrm>
            <a:off x="3132000" y="3357720"/>
            <a:ext cx="5832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4"/>
          <p:cNvGraphicFramePr/>
          <p:nvPr/>
        </p:nvGraphicFramePr>
        <p:xfrm>
          <a:off x="539640" y="333360"/>
          <a:ext cx="693576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693576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6" descr="012"/>
          <p:cNvPicPr/>
          <p:nvPr/>
        </p:nvPicPr>
        <p:blipFill>
          <a:blip r:embed="rId3"/>
          <a:stretch/>
        </p:blipFill>
        <p:spPr>
          <a:xfrm>
            <a:off x="250920" y="189000"/>
            <a:ext cx="698400" cy="93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42920" y="515772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台电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盘的容量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G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可用空间的容量为（        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79567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56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6756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RYFC"/>
          <p:cNvPicPr/>
          <p:nvPr/>
        </p:nvPicPr>
        <p:blipFill>
          <a:blip r:embed="rId1"/>
          <a:stretch/>
        </p:blipFill>
        <p:spPr>
          <a:xfrm>
            <a:off x="826920" y="836640"/>
            <a:ext cx="376884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64320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www.jjzzx.org/jqt/tongjitu/09/IMAGE/TRYFC.2.gif"/>
          <p:cNvPicPr/>
          <p:nvPr/>
        </p:nvPicPr>
        <p:blipFill>
          <a:blip r:embed="rId2"/>
          <a:stretch/>
        </p:blipFill>
        <p:spPr>
          <a:xfrm>
            <a:off x="4932360" y="836640"/>
            <a:ext cx="3646440" cy="2160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79280" y="3429000"/>
            <a:ext cx="8686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）从上面两个统计图中你知道哪个学校的男、女生人数相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）上面两个统计图中，你知道哪一个学校的女生人数多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1116000" y="4653000"/>
            <a:ext cx="568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扇形统计图只能看出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各部分数量同总数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） ，不能看出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各部分数量的多少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1412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了解扇形统计图的特点和作用，知道扇形统计图可以清楚地表示出各部分数量和总量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能看懂扇形统计图，并能从图中获取所需要的信息。进行简单的分析，感受统计的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514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右图，并回答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用整个圆表示总体，那么哪一个扇形表示总体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用整个圆表示我班的人数，那么扇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约代表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用整个圆表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磅重的蛋糕，那么扇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约代表多少蛋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765840" y="3048120"/>
            <a:ext cx="1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5364000" y="2060640"/>
          <a:ext cx="365760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060640"/>
                    <a:ext cx="36576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6"/>
          <p:cNvSpPr/>
          <p:nvPr/>
        </p:nvSpPr>
        <p:spPr>
          <a:xfrm>
            <a:off x="62485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084720" y="4005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23888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50920" y="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图是某班一次数学考试成绩统计图。已知不及格的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请你算出各种成绩的人数填入统计表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1276200"/>
          <a:ext cx="6804000" cy="45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804000" cy="45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580000" y="1600200"/>
          <a:ext cx="3106800" cy="4276800"/>
        </p:xfrm>
        <a:graphic>
          <a:graphicData uri="http://schemas.openxmlformats.org/drawingml/2006/table">
            <a:tbl>
              <a:tblPr/>
              <a:tblGrid>
                <a:gridCol w="1554120"/>
                <a:gridCol w="155268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及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及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Line 30"/>
          <p:cNvSpPr/>
          <p:nvPr/>
        </p:nvSpPr>
        <p:spPr>
          <a:xfrm>
            <a:off x="3419640" y="22766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V="1">
            <a:off x="3348000" y="227664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1403280" y="2781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3"/>
          <p:cNvSpPr/>
          <p:nvPr/>
        </p:nvSpPr>
        <p:spPr>
          <a:xfrm>
            <a:off x="2556000" y="2781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24000" y="620640"/>
            <a:ext cx="6476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图是某班一次数学考试成绩统计图。已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及格的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。请你算出各种成绩的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填入统计表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-541440" y="1773360"/>
          <a:ext cx="693432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1773360"/>
                    <a:ext cx="69343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4"/>
          <p:cNvSpPr/>
          <p:nvPr/>
        </p:nvSpPr>
        <p:spPr>
          <a:xfrm flipV="1">
            <a:off x="2771640" y="263700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2843280" y="2637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042920" y="3068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2195640" y="30686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300720" y="836640"/>
          <a:ext cx="2590920" cy="3022560"/>
        </p:xfrm>
        <a:graphic>
          <a:graphicData uri="http://schemas.openxmlformats.org/drawingml/2006/table">
            <a:tbl>
              <a:tblPr/>
              <a:tblGrid>
                <a:gridCol w="1338480"/>
                <a:gridCol w="12524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及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及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28"/>
          <p:cNvSpPr/>
          <p:nvPr/>
        </p:nvSpPr>
        <p:spPr>
          <a:xfrm>
            <a:off x="4572000" y="4076640"/>
            <a:ext cx="43210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4716360" y="4653000"/>
            <a:ext cx="352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÷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250920" y="5300640"/>
            <a:ext cx="8893080" cy="101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×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6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）     良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×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5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及格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×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6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740720" y="1557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7812000" y="33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740720" y="213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7812000" y="278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24000" y="692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是王大妈批发的三种蔬菜。茄子的千克数是三种蔬菜总量的（　　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茄子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，黄瓜是（        ）千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0" y="2205000"/>
          <a:ext cx="644364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5000"/>
                    <a:ext cx="64436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6"/>
          <p:cNvSpPr/>
          <p:nvPr/>
        </p:nvSpPr>
        <p:spPr>
          <a:xfrm>
            <a:off x="2484360" y="3573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788000" y="3213000"/>
            <a:ext cx="3887640" cy="101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种蔬菜总质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÷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80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427640" y="2276640"/>
            <a:ext cx="42480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茄子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356000" y="4797360"/>
            <a:ext cx="44640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黄瓜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×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132000" y="1052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050920" y="1484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80880" y="14479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台电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盘的容量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G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则可用空间的容量为（        ）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286000" y="4114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58920" y="2708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403280" y="279072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7907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议一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201201141036488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2"/>
          <p:cNvSpPr/>
          <p:nvPr/>
        </p:nvSpPr>
        <p:spPr>
          <a:xfrm>
            <a:off x="2340000" y="1484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3635280" y="2924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250920" y="189000"/>
            <a:ext cx="6769080" cy="3024000"/>
            <a:chOff x="250920" y="189000"/>
            <a:chExt cx="6769080" cy="3024000"/>
          </a:xfrm>
        </p:grpSpPr>
        <p:graphicFrame>
          <p:nvGraphicFramePr>
            <p:cNvPr id="180" name="Object 2"/>
            <p:cNvGraphicFramePr/>
            <p:nvPr/>
          </p:nvGraphicFramePr>
          <p:xfrm>
            <a:off x="250920" y="189000"/>
            <a:ext cx="6769080" cy="30240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8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189000"/>
                      <a:ext cx="6769080" cy="30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24"/>
            <p:cNvSpPr/>
            <p:nvPr/>
          </p:nvSpPr>
          <p:spPr>
            <a:xfrm>
              <a:off x="3276720" y="21013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足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6"/>
            <p:cNvSpPr/>
            <p:nvPr/>
          </p:nvSpPr>
          <p:spPr>
            <a:xfrm>
              <a:off x="3348000" y="1113480"/>
              <a:ext cx="100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乒乓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2577600" y="1052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2720520" y="2286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跳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2072520" y="1792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踢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1908000" y="20376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4"/>
            <p:cNvSpPr/>
            <p:nvPr/>
          </p:nvSpPr>
          <p:spPr>
            <a:xfrm>
              <a:off x="2411280" y="25340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5"/>
            <p:cNvSpPr/>
            <p:nvPr/>
          </p:nvSpPr>
          <p:spPr>
            <a:xfrm>
              <a:off x="2340000" y="142236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5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6"/>
            <p:cNvSpPr/>
            <p:nvPr/>
          </p:nvSpPr>
          <p:spPr>
            <a:xfrm>
              <a:off x="3276720" y="2410200"/>
              <a:ext cx="1441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37"/>
          <p:cNvSpPr/>
          <p:nvPr/>
        </p:nvSpPr>
        <p:spPr>
          <a:xfrm>
            <a:off x="2822760" y="333360"/>
            <a:ext cx="2734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Tahoma"/>
              </a:rPr>
              <a:t>六（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33cc"/>
                </a:solidFill>
                <a:latin typeface="Tahoma"/>
              </a:rPr>
              <a:t>）班最喜欢的运动项目统计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2050920" y="2060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250920" y="3357720"/>
            <a:ext cx="849636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大小不等的扇形表示（                                     ），扇形越大，对应项目所占总数的百分比（  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扇形统计图中所有百分比的和是（           ），因此，整个圆表示（                   ），相当于（ 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扇形统计图表示出了（                ）和（           ）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扇形统计图能看出具体的数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0"/>
          <p:cNvSpPr/>
          <p:nvPr/>
        </p:nvSpPr>
        <p:spPr>
          <a:xfrm>
            <a:off x="4140360" y="335772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各项目所占的百分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370836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越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572000" y="414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611280" y="44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全班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3348000" y="443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单位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320364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各部分数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6"/>
          <p:cNvSpPr/>
          <p:nvPr/>
        </p:nvSpPr>
        <p:spPr>
          <a:xfrm>
            <a:off x="5148360" y="486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总数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8"/>
          <p:cNvSpPr/>
          <p:nvPr/>
        </p:nvSpPr>
        <p:spPr>
          <a:xfrm>
            <a:off x="421164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12"/>
          <p:cNvPicPr/>
          <p:nvPr/>
        </p:nvPicPr>
        <p:blipFill>
          <a:blip r:embed="rId1"/>
          <a:stretch/>
        </p:blipFill>
        <p:spPr>
          <a:xfrm>
            <a:off x="179280" y="115920"/>
            <a:ext cx="698760" cy="93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971640" y="476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Arial"/>
              </a:rPr>
              <a:t>知识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141300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我们学习了哪些统计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332000" y="2133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形统计图、折线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84360" y="3068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它们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68360" y="4149720"/>
            <a:ext cx="6478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形统计图可以清楚地看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折线统计图不仅可以看出数量的多少还可以看出数量增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变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SCF0488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24000" y="63388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数据收集；数据处理；作出决策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5"/>
          <p:cNvSpPr/>
          <p:nvPr/>
        </p:nvSpPr>
        <p:spPr>
          <a:xfrm>
            <a:off x="1474920" y="9810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六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班同学最喜欢的运动项目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1916280"/>
          <a:ext cx="7777080" cy="3313080"/>
        </p:xfrm>
        <a:graphic>
          <a:graphicData uri="http://schemas.openxmlformats.org/drawingml/2006/table">
            <a:tbl>
              <a:tblPr/>
              <a:tblGrid>
                <a:gridCol w="1296720"/>
                <a:gridCol w="1295640"/>
                <a:gridCol w="1297080"/>
                <a:gridCol w="1295280"/>
                <a:gridCol w="1297080"/>
                <a:gridCol w="1295280"/>
              </a:tblGrid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乒乓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足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跳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踢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34"/>
          <p:cNvSpPr/>
          <p:nvPr/>
        </p:nvSpPr>
        <p:spPr>
          <a:xfrm>
            <a:off x="684360" y="443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百分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36" descr="123"/>
          <p:cNvPicPr/>
          <p:nvPr/>
        </p:nvPicPr>
        <p:blipFill>
          <a:blip r:embed="rId1"/>
          <a:stretch/>
        </p:blipFill>
        <p:spPr>
          <a:xfrm>
            <a:off x="0" y="0"/>
            <a:ext cx="4191120" cy="53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7" descr="012"/>
          <p:cNvPicPr/>
          <p:nvPr/>
        </p:nvPicPr>
        <p:blipFill>
          <a:blip r:embed="rId2"/>
          <a:stretch/>
        </p:blipFill>
        <p:spPr>
          <a:xfrm>
            <a:off x="0" y="0"/>
            <a:ext cx="6984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0120114112750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8"/>
          <p:cNvSpPr/>
          <p:nvPr/>
        </p:nvSpPr>
        <p:spPr>
          <a:xfrm>
            <a:off x="2526480" y="260280"/>
            <a:ext cx="375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六（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）班最喜欢的运动项目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42920" y="836640"/>
          <a:ext cx="7416720" cy="1419120"/>
        </p:xfrm>
        <a:graphic>
          <a:graphicData uri="http://schemas.openxmlformats.org/drawingml/2006/table">
            <a:tbl>
              <a:tblPr/>
              <a:tblGrid>
                <a:gridCol w="1513080"/>
                <a:gridCol w="1295280"/>
                <a:gridCol w="1152360"/>
                <a:gridCol w="1150920"/>
                <a:gridCol w="1068480"/>
                <a:gridCol w="123660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乒乓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足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跳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踢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分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67"/>
          <p:cNvSpPr/>
          <p:nvPr/>
        </p:nvSpPr>
        <p:spPr>
          <a:xfrm>
            <a:off x="2340000" y="2349360"/>
            <a:ext cx="388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+8+5+6+9=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8"/>
          <p:cNvSpPr/>
          <p:nvPr/>
        </p:nvSpPr>
        <p:spPr>
          <a:xfrm>
            <a:off x="900000" y="285264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÷40=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    喜欢乒乓球的占全班人数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9"/>
          <p:cNvSpPr/>
          <p:nvPr/>
        </p:nvSpPr>
        <p:spPr>
          <a:xfrm>
            <a:off x="900000" y="335772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÷40=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      喜欢足球的占全班人数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0"/>
          <p:cNvSpPr/>
          <p:nvPr/>
        </p:nvSpPr>
        <p:spPr>
          <a:xfrm>
            <a:off x="900000" y="386064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÷40=12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   喜欢跳绳的占全班人数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1"/>
          <p:cNvSpPr/>
          <p:nvPr/>
        </p:nvSpPr>
        <p:spPr>
          <a:xfrm>
            <a:off x="900000" y="436572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÷40=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      喜欢踢毽的占全班人数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900000" y="4941720"/>
            <a:ext cx="72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÷40=22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    喜欢其他的占全班人数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4"/>
          <p:cNvSpPr/>
          <p:nvPr/>
        </p:nvSpPr>
        <p:spPr>
          <a:xfrm>
            <a:off x="2797920" y="1773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5"/>
          <p:cNvSpPr/>
          <p:nvPr/>
        </p:nvSpPr>
        <p:spPr>
          <a:xfrm>
            <a:off x="4021920" y="1773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5174640" y="17733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.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8"/>
          <p:cNvSpPr/>
          <p:nvPr/>
        </p:nvSpPr>
        <p:spPr>
          <a:xfrm>
            <a:off x="6182280" y="17733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9"/>
          <p:cNvSpPr/>
          <p:nvPr/>
        </p:nvSpPr>
        <p:spPr>
          <a:xfrm>
            <a:off x="7334640" y="17733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2.5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E03738_"/>
          <p:cNvPicPr/>
          <p:nvPr/>
        </p:nvPicPr>
        <p:blipFill>
          <a:blip r:embed="rId1"/>
          <a:stretch/>
        </p:blipFill>
        <p:spPr>
          <a:xfrm>
            <a:off x="7068960" y="4670280"/>
            <a:ext cx="2075040" cy="218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6264360" cy="5185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472000" y="1341360"/>
            <a:ext cx="3672000" cy="332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82160" cy="100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79280" y="1916280"/>
            <a:ext cx="554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整个圆的面积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、各个扇形表示什么？它的大小和什么有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、用这样的统计图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、 你还能提出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3579-90F2-4EEE-8F63-C23648E902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200" y="188640"/>
            <a:ext cx="504216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讨论我们可以知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扇形统计图都是用整个圆表示总数（或者单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，也就是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0%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扇形统计图用圆内各个扇形表示各部分数量占总数的百分之几，即各部分同总数之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从扇形统计图上可以直观地看出各部分数量的大小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828800" y="220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08:13:16Z</dcterms:created>
  <dc:creator>lenovo</dc:creator>
  <dc:description/>
  <cp:keywords/>
  <dc:language>en-US</dc:language>
  <cp:lastModifiedBy>dreamsummit</cp:lastModifiedBy>
  <dcterms:modified xsi:type="dcterms:W3CDTF">2017-03-12T13:31:41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